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0396A-5A59-48C9-95BD-A7302DB354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EC352-C304-4A1C-AC9D-679C05CB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:  Sequence and structural properties of cleavage sequenc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(a) A stacked histogram showing the percentages for which each residue is present at each position in the cleavage sequence, in positives for Granzyme B (G) and Caspase (C), and negatives (N).  The numbering spans from P4 to P4’.  Letters on the plots represent the one-letter code for each amino acid, followed by its percentage at that position.  X (orange) represents the total percentage for all residues that are present in the position at less than 5% frequency.  Amino acids are grouped by general characteristic (Blues: hydrophobic; reds: branched hydrophobic; greens: acidic; teals: basic; purples: uncharged polar). (b) Structural properties of protease cleavage sequence positives and negatives.  (Structure) indicates that DSSP was used to assess structural properties of substrates where a solved structure or good quality model was available; (Sequence) indicates that sequence-based structural prediction methods were used to assess the fe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E80D4-2050-4FDF-83E7-105D2D2E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B80-94C9-44D2-87F9-ADE5FFB7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B7B-2A4D-46A1-9837-C297ED3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5CB-7BF6-41DE-82BF-63AF958C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259-B861-49FD-BD85-5A734EF8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739-13A4-48F6-BFC0-B3A9FB3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35E-B676-40FC-8BBC-117E55BB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F15-3360-4C32-8F7A-BAE7E5F9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2E7-AA7A-4EEC-B860-D1267AE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332-9D52-48B7-BB91-CFB799C6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B02-E7E0-4CDF-861F-C8295F7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747-284A-480E-B822-42DF8B3A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C76-FAE9-4FC6-BCDD-777A62A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FC7BE-8638-4E33-BBC3-E9E5CB75D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0861B-4571-48B7-8AD5-D098FA901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7" descr=""/>
          <p:cNvPicPr/>
          <p:nvPr/>
        </p:nvPicPr>
        <p:blipFill>
          <a:blip r:embed="rId1"/>
          <a:stretch/>
        </p:blipFill>
        <p:spPr>
          <a:xfrm>
            <a:off x="255600" y="401760"/>
            <a:ext cx="64436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Chart 9" descr=""/>
          <p:cNvPicPr/>
          <p:nvPr/>
        </p:nvPicPr>
        <p:blipFill>
          <a:blip r:embed="rId2"/>
          <a:stretch/>
        </p:blipFill>
        <p:spPr>
          <a:xfrm>
            <a:off x="165240" y="2968560"/>
            <a:ext cx="312732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Chart 8" descr=""/>
          <p:cNvPicPr/>
          <p:nvPr/>
        </p:nvPicPr>
        <p:blipFill>
          <a:blip r:embed="rId3"/>
          <a:stretch/>
        </p:blipFill>
        <p:spPr>
          <a:xfrm>
            <a:off x="3736800" y="2968560"/>
            <a:ext cx="312768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67400" y="19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7760" y="29113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511440" y="4579920"/>
            <a:ext cx="76320" cy="76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11440" y="4973760"/>
            <a:ext cx="76320" cy="75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511440" y="4770360"/>
            <a:ext cx="7632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554280" y="46846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p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3555720" y="44942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g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552840" y="4888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653280" y="291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641160" y="203040"/>
            <a:ext cx="59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           P3           P2            P1           P1’          P2’           P3’          P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5" descr=""/>
          <p:cNvPicPr/>
          <p:nvPr/>
        </p:nvPicPr>
        <p:blipFill>
          <a:blip r:embed="rId1"/>
          <a:srcRect l="1227" t="1902" r="1859" b="1902"/>
          <a:stretch/>
        </p:blipFill>
        <p:spPr>
          <a:xfrm>
            <a:off x="152280" y="2158920"/>
            <a:ext cx="6400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0:41:28Z</dcterms:created>
  <dc:creator>David Barkan</dc:creator>
  <dc:description/>
  <dc:language>en-US</dc:language>
  <cp:lastModifiedBy>David Barkan</cp:lastModifiedBy>
  <cp:lastPrinted>2009-09-30T02:40:58Z</cp:lastPrinted>
  <dcterms:modified xsi:type="dcterms:W3CDTF">2010-01-05T10:56:53Z</dcterms:modified>
  <cp:revision>50</cp:revision>
  <dc:subject/>
  <dc:title>Slide 1</dc:title>
</cp:coreProperties>
</file>